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117-D712-494F-8B56-90459BEE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A68-7BB0-43D5-9835-B74AD3D1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6B5-A7B7-4CA0-AEEF-AA53FFD6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0A4-8653-474D-A082-119ACA23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AC2-603B-4F19-9058-0E95A2BD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1DF-276D-441B-85FF-0AB248A3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3BC-AE2E-43F1-AD07-D95643B0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AEF-D17A-46B1-A458-F9A3C18C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13A-2974-4C4B-A036-D26C5E2E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E15-4EDA-48B3-BEAA-C95711EE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6BA-F190-45D5-AB7B-2C5D8639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1924-F227-4076-BC4F-AC57C8A5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2E52-D045-46A4-807E-0AAE493E3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3367"/>
          <a:stretch/>
        </p:blipFill>
        <p:spPr>
          <a:xfrm>
            <a:off x="457200" y="304920"/>
            <a:ext cx="8305920" cy="6019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5334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609480" y="556272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51055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143000" y="53341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8360" y="536724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371240" y="5562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5600" y="518148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980720" y="54100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09680" y="541008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5410080"/>
            <a:ext cx="75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54100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4648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x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971440" y="50292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2640" y="54100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dge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23360" y="491004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4600" y="518148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3240" y="541008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267080" y="51055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71640" y="54100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028840" y="56386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0666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oll Library of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5760" y="160020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F8 to Open or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9:21:46Z</dcterms:created>
  <dc:creator>Rye Schools</dc:creator>
  <dc:description/>
  <dc:language>en-US</dc:language>
  <cp:lastModifiedBy>Rye Schools</cp:lastModifiedBy>
  <dcterms:modified xsi:type="dcterms:W3CDTF">2008-01-04T19:24:13Z</dcterms:modified>
  <cp:revision>2</cp:revision>
  <dc:subject/>
  <dc:title>Slide 1</dc:title>
</cp:coreProperties>
</file>